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1DC-613C-4DDE-9DBA-2E22A248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142-16A8-4EF0-8568-4D9A1DCA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6A3-C5D2-4A58-B9AC-D8B2EFBB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8E3-E175-4393-8582-9D72D891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7A65-8B64-4530-B2C3-224BB5BD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ECF-E0AB-4B38-AE96-8BD58CC5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68C5-B295-4891-B230-EBDB82E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85D8-B285-4969-81D0-6364993F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CE3-99CF-4155-A4DF-C1E81776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459C-555D-405B-9049-4E8DA60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DD93-6B40-4487-8142-FF9CA83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5A53-82C5-48C3-A16C-35AF4F6A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7EB2-0FC2-4169-98F5-5740E55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F943-B59F-4CCF-82C9-1DAAD1EA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D0A3-3660-4ACE-BBE1-8F9E8A9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8C1-01F9-4627-97D1-174F9097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2AFE-C705-40E6-9533-2DC10EBB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43B-A1B1-47C7-AD8B-97560AFC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F74-C6EC-4DD3-945D-44751900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C25-BFC0-45D5-85AE-A20B5FF8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0C0-6A9A-4FFB-A71E-B2F88F12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CBC6-1857-4E6D-8FB0-35F083F1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EA6-0A71-4732-84A6-6637F2E7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204-B161-4939-B29F-5F56B1D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4A48-96AC-4AEF-A0DC-EDF5EE422B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366F-721C-405E-A44C-AC9376BAE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600560" y="838080"/>
            <a:ext cx="76201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“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Gift of the Magi”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by O. Hen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686800" y="6324120"/>
            <a:ext cx="457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14316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5040" y="2438280"/>
            <a:ext cx="5272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ay we are focusing on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Be 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recognize the events in the story such 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Ex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onfli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ising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Cli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Falling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080" y="228600"/>
            <a:ext cx="4988880" cy="5814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day September 22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8240" y="5268960"/>
            <a:ext cx="8791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and analyze the conventions of the short sto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ze the concepts of "truth" and "imagination" in litera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how ideas, issues, and/or subjects developed in specific sho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ies apply to your own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ot: Also called storyline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, scheme, or main story of a literary or dramatic work, as a play, novel,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hort sto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ocabulary Words for “The Gift of the Magi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gates (pg.247)- urges on; stirs 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eciate (pg. 248)- reduce in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reet (250)- Careful about what one says or do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Make up your own sentence with these new vocabulary words in the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uesday September 2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*Did you remember 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b your bell wor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68316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5600" y="1244520"/>
            <a:ext cx="330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he Scarlet Ibi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by James Hu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228600"/>
            <a:ext cx="585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ednesday September 24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46000" y="1523880"/>
            <a:ext cx="37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d you rememb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grab your bell work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68840" y="2362320"/>
            <a:ext cx="54432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Today we are focusing on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INT OF VIEW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literatur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rytelling, 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int of vie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ated experience of the narrator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that of the auth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33:34Z</dcterms:created>
  <dc:creator>Center School District</dc:creator>
  <dc:description/>
  <dc:language>en-US</dc:language>
  <cp:lastModifiedBy>Admin</cp:lastModifiedBy>
  <dcterms:modified xsi:type="dcterms:W3CDTF">2008-08-27T20:07:47Z</dcterms:modified>
  <cp:revision>13</cp:revision>
  <dc:subject/>
  <dc:title> The Gift of the Magi  by O. Henry</dc:title>
</cp:coreProperties>
</file>